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902-9059-4070-BD4C-69D5EE1E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4A2-A73E-491E-A686-58CE40E8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0E6-83C5-415E-A7B4-F11AF61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610-B083-4675-99B8-836A80A6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3832-CC70-492A-92A7-2F844ADD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40C-0679-4DD2-B30E-F0ED76B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DA4-CA0C-4B26-802F-F7B2F01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8409-2D31-40A1-8110-655481CE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4E87-9CD6-4963-B2E6-EE3B2A46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BE2-7806-4171-B8BA-582B0C80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7FA-0F4F-459D-8983-95998E1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C9E-F0B9-4FB3-8F0E-953C380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921-AE86-4A99-8E56-19CDDFC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B3E9-F8C8-43D1-80CE-6EDCF2B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FBE3-F15C-4B1F-8705-3E347DC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06F-E2FF-4D27-93F7-DC0D54E3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806-CB15-4A5D-A05C-0E25FE99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008-3036-4235-9DFD-795609C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567-29F2-4C9D-BFCB-BCD5F04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244-0934-4228-9308-64F319F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861-E616-4AA2-8C66-B0514BB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1CF-1EDD-4CD3-958A-9246A16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26A-0AA5-430F-BD83-9EFF4C1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4DA-494F-4067-9C12-E2DEC3D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6C5-0E0F-45B1-AA51-7C3C0E219D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BA47-DB16-40B6-AD2A-D55B18BC74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ps.cs.odu.ed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einonline.org/OAI-script" TargetMode="External"/><Relationship Id="rId2" Type="http://schemas.openxmlformats.org/officeDocument/2006/relationships/hyperlink" Target="http://heinonline.org/OAI-script" TargetMode="External"/><Relationship Id="rId3" Type="http://schemas.openxmlformats.org/officeDocument/2006/relationships/hyperlink" Target="http://heinonline.org/OAI-scri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Arc – Federated Searching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urt Maly, Xiaoming Liu, M.Zubair, Michael L.Nels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ld Dominion Univers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anuary 23, 20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oa100" descr=""/>
          <p:cNvPicPr/>
          <p:nvPr/>
        </p:nvPicPr>
        <p:blipFill>
          <a:blip r:embed="rId1"/>
          <a:stretch/>
        </p:blipFill>
        <p:spPr>
          <a:xfrm>
            <a:off x="6400800" y="60948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3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adata indexed with Oracle’s context cartridge ser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 information maintained in local cac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performance reasons; result sets can be large and are manipulated in cache rather than from the RDB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re info about architecture: ECDL 2000, Maly et al., pp. 168-17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lity of data provi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expense of maintaining a quality federation service  is highly dependant on quality of data prov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rolled vocabul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unified controlled vocabulary, or at least defining mapping relationship, is important in a cross archive serv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ML syntax and character enco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ingle error could influence large set of dat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haracter encoding error occurs frequently in most  data provid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 sched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use historical harvest + daily based incremental harves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rade-off between data freshness and harvest efficienc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authority file for author, organization, forma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p different subject classification system to a canonical on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full bucket suppor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service, customized collections, change the nature of the collection based on usage ... and other value added service if pos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AI alpha group and data provide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DU DL Group (http://dlib.cs.odu.edu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derated searching ser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arc.cs.odu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icipant of OAI alpha t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s.odu.edu/~dlibug/alph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al Preprint Serv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ups.cs.odu.edu/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itial demonstration vehicle for OA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on NCSTRL+ which is an extension of NCSTR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cke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arch engine developed at ODU based on Oracle databa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ple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text across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pport boolean operator (and/o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vanced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across archives, or in specific archive and its subs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 text i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author/title/abstra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ield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lter search/browse by archive/set/subject/type/language/datestamp/discovery d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led vocabulary extracted from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sort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y datestamp,archive,relevant rank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displ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 list – NCSTRL+ like interfa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lay single document in deta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ghtweight buck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to data sour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llections being harves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479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AI1.0 complian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181480"/>
            <a:ext cx="60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ld SF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C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CSTR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2133720"/>
            <a:ext cx="6553080" cy="2743200"/>
            <a:chOff x="838080" y="2133720"/>
            <a:chExt cx="6553080" cy="2743200"/>
          </a:xfrm>
        </p:grpSpPr>
        <p:grpSp>
          <p:nvGrpSpPr>
            <p:cNvPr id="223" name=""/>
            <p:cNvGrpSpPr/>
            <p:nvPr/>
          </p:nvGrpSpPr>
          <p:grpSpPr>
            <a:xfrm>
              <a:off x="846000" y="2136240"/>
              <a:ext cx="6535800" cy="2737800"/>
              <a:chOff x="846000" y="2136240"/>
              <a:chExt cx="6535800" cy="2737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846000" y="2136240"/>
                <a:ext cx="1267920" cy="496080"/>
                <a:chOff x="846000" y="2136240"/>
                <a:chExt cx="1267920" cy="496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Identifier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114280" y="2136240"/>
                <a:ext cx="5267520" cy="496080"/>
                <a:chOff x="2114280" y="2136240"/>
                <a:chExt cx="5267520" cy="4960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Full name of the archive 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46000" y="2632320"/>
                <a:ext cx="1267920" cy="376560"/>
                <a:chOff x="846000" y="2632320"/>
                <a:chExt cx="1267920" cy="376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114280" y="2632320"/>
                <a:ext cx="5267520" cy="376560"/>
                <a:chOff x="2114280" y="2632320"/>
                <a:chExt cx="5267520" cy="37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 e-print archiv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46000" y="3008880"/>
                <a:ext cx="1267920" cy="496080"/>
                <a:chOff x="846000" y="3008880"/>
                <a:chExt cx="1267920" cy="496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114280" y="3008880"/>
                <a:ext cx="5267520" cy="496080"/>
                <a:chOff x="2114280" y="3008880"/>
                <a:chExt cx="5267520" cy="4960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46000" y="3505320"/>
                <a:ext cx="1267920" cy="495720"/>
                <a:chOff x="846000" y="3505320"/>
                <a:chExt cx="1267920" cy="495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C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114280" y="3505320"/>
                <a:ext cx="5267520" cy="495720"/>
                <a:chOff x="2114280" y="3505320"/>
                <a:chExt cx="5267520" cy="495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tional Advisory Committee for Aeronautic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846000" y="4001040"/>
                <a:ext cx="1267920" cy="496080"/>
                <a:chOff x="846000" y="4001040"/>
                <a:chExt cx="1267920" cy="4960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DLTD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114280" y="4001040"/>
                <a:ext cx="5267520" cy="496080"/>
                <a:chOff x="2114280" y="4001040"/>
                <a:chExt cx="5267520" cy="496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Virginia Tech Thesis/Dissertation Colle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46000" y="4497480"/>
                <a:ext cx="1267920" cy="376560"/>
                <a:chOff x="846000" y="4497480"/>
                <a:chExt cx="1267920" cy="3765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TR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114280" y="4497480"/>
                <a:ext cx="5267520" cy="376560"/>
                <a:chOff x="2114280" y="4497480"/>
                <a:chExt cx="5267520" cy="376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angley Tehcnical Report Serv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838080" y="2133720"/>
              <a:ext cx="655308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Harvesting - For Alpha Test Onl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240" y="5156280"/>
            <a:ext cx="9144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" y="-7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" y="6327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" y="123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" y="-463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" y="-5540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" y="674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" y="31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" y="-74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080" y="1752480"/>
            <a:ext cx="7086240" cy="4591080"/>
            <a:chOff x="838080" y="1752480"/>
            <a:chExt cx="7086240" cy="4591080"/>
          </a:xfrm>
        </p:grpSpPr>
        <p:grpSp>
          <p:nvGrpSpPr>
            <p:cNvPr id="272" name=""/>
            <p:cNvGrpSpPr/>
            <p:nvPr/>
          </p:nvGrpSpPr>
          <p:grpSpPr>
            <a:xfrm>
              <a:off x="843480" y="1756080"/>
              <a:ext cx="7074720" cy="4582440"/>
              <a:chOff x="843480" y="1756080"/>
              <a:chExt cx="7074720" cy="45824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480" y="1756080"/>
                <a:ext cx="1534680" cy="550800"/>
                <a:chOff x="843480" y="1756080"/>
                <a:chExt cx="1534680" cy="550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entifi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378520" y="1756080"/>
                <a:ext cx="1468080" cy="550800"/>
                <a:chOff x="2378520" y="1756080"/>
                <a:chExt cx="1468080" cy="5508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Organiza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46960" y="1756080"/>
                <a:ext cx="4071240" cy="550800"/>
                <a:chOff x="3846960" y="1756080"/>
                <a:chExt cx="4071240" cy="550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arvest UR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843480" y="2306880"/>
                <a:ext cx="1534680" cy="550800"/>
                <a:chOff x="843480" y="2306880"/>
                <a:chExt cx="1534680" cy="550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einOnlin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78520" y="2306880"/>
                <a:ext cx="1468080" cy="550800"/>
                <a:chOff x="2378520" y="2306880"/>
                <a:chExt cx="1468080" cy="550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846960" y="2306880"/>
                <a:ext cx="4071240" cy="550800"/>
                <a:chOff x="3846960" y="2306880"/>
                <a:chExt cx="4071240" cy="550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1"/>
                    </a:rPr>
                    <a:t>http://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2"/>
                    </a:rPr>
                    <a:t>heinonline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3"/>
                    </a:rPr>
                    <a:t>.org/OAI-script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843480" y="2858040"/>
                <a:ext cx="1534680" cy="550800"/>
                <a:chOff x="843480" y="2858040"/>
                <a:chExt cx="1534680" cy="5508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NSDL-CU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78520" y="2858040"/>
                <a:ext cx="1468080" cy="550800"/>
                <a:chOff x="2378520" y="2858040"/>
                <a:chExt cx="1468080" cy="5508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846960" y="2858040"/>
                <a:ext cx="4071240" cy="550800"/>
                <a:chOff x="3846960" y="2858040"/>
                <a:chExt cx="4071240" cy="550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inonline.org/OAI-NSD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43480" y="3408840"/>
                <a:ext cx="1534680" cy="550800"/>
                <a:chOff x="843480" y="3408840"/>
                <a:chExt cx="1534680" cy="550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d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78520" y="3408840"/>
                <a:ext cx="1468080" cy="550800"/>
                <a:chOff x="2378520" y="3408840"/>
                <a:chExt cx="1468080" cy="550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846960" y="3408840"/>
                <a:ext cx="4071240" cy="550800"/>
                <a:chOff x="3846960" y="3408840"/>
                <a:chExt cx="4071240" cy="550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ldc/test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480" y="3960000"/>
                <a:ext cx="1534680" cy="550800"/>
                <a:chOff x="843480" y="3960000"/>
                <a:chExt cx="1534680" cy="550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elr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78520" y="3960000"/>
                <a:ext cx="1468080" cy="550800"/>
                <a:chOff x="2378520" y="3960000"/>
                <a:chExt cx="1468080" cy="550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846960" y="3960000"/>
                <a:ext cx="4071240" cy="550800"/>
                <a:chOff x="3846960" y="3960000"/>
                <a:chExt cx="4071240" cy="550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elra/elra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843480" y="4511160"/>
                <a:ext cx="1534680" cy="550800"/>
                <a:chOff x="843480" y="4511160"/>
                <a:chExt cx="1534680" cy="550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coa1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78520" y="4511160"/>
                <a:ext cx="1468080" cy="550800"/>
                <a:chOff x="2378520" y="4511160"/>
                <a:chExt cx="1468080" cy="550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O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846960" y="4511160"/>
                <a:ext cx="4071240" cy="550800"/>
                <a:chOff x="3846960" y="4511160"/>
                <a:chExt cx="4071240" cy="550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lcweb2.loc.gov/cgi-bin/oai0_9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43480" y="5061960"/>
                <a:ext cx="1534680" cy="550800"/>
                <a:chOff x="843480" y="5061960"/>
                <a:chExt cx="1534680" cy="550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tk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78520" y="5061960"/>
                <a:ext cx="1468080" cy="550800"/>
                <a:chOff x="2378520" y="5061960"/>
                <a:chExt cx="1468080" cy="550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TK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846960" y="5061960"/>
                <a:ext cx="4071240" cy="550800"/>
                <a:chOff x="3846960" y="5061960"/>
                <a:chExt cx="4071240" cy="5508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lios.dii.utk.edu/cgi-bin/oai.cg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43480" y="5613120"/>
                <a:ext cx="1534680" cy="725400"/>
                <a:chOff x="843480" y="5613120"/>
                <a:chExt cx="1534680" cy="72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l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78520" y="5613120"/>
                <a:ext cx="1468080" cy="725400"/>
                <a:chOff x="2378520" y="5613120"/>
                <a:chExt cx="1468080" cy="72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IU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846960" y="5613120"/>
                <a:ext cx="4071240" cy="725400"/>
                <a:chOff x="3846960" y="5613120"/>
                <a:chExt cx="4071240" cy="72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bolder.grainger.uiuc.edu/dlibmeta/oai.asp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838080" y="1752480"/>
              <a:ext cx="7086240" cy="459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240" y="61117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1/3)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050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9" name="arcstructure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2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ormal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ferent archives have different format/naming conventions for specific metadata field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storical Harve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llected archival data published before a fixed ti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sh Harv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 incremental harvester daemon periodically fetches new published metadata from data providers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4:18:30Z</dcterms:created>
  <dc:creator>liu_x</dc:creator>
  <dc:description/>
  <dc:language>en-US</dc:language>
  <cp:lastModifiedBy>Kurt Maly</cp:lastModifiedBy>
  <dcterms:modified xsi:type="dcterms:W3CDTF">2001-01-18T12:59:06Z</dcterms:modified>
  <cp:revision>7</cp:revision>
  <dc:subject/>
  <dc:title>Arc – Federated Searching Service</dc:title>
</cp:coreProperties>
</file>